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ve the names of the follow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 HBr (aq)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 bromic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 bromous aci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 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 H2CO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 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 hydro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 carbon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a nonoxy acid begins with the prefix hydro- and ends with -ic acid. In a nonoxy acid, the negative anion end in -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H2C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an oxyacid is named with the stem of the anion (carbonate) chang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______  Al(OH)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ch the formulas with th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A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ch the formulas with th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4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5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2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1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3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, Bas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l2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AB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, Bas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l2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i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onsted-Lowry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are hydrogen ion (H+) d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are hydrogen ion (H+) ac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          +      H2O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H3O+         +       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nor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cepto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+                  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rrhenius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produce H+ in aqueous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H+(aq)  + Cl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produce OH- in aqueous solution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Na+(aq)  +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H+ (as H3O+)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 negative ion (-)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sour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 met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bases to form salts and 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H-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bitter, chal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lectrol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soapy, slipp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acids to form salts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solution in each of the following as: 1) acid   2) base  or 3)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___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___so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___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___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___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 ___ grape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ach solution a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cid   2) base  or 3) 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_1_  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_2_  so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_1_  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_1_ 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_3_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 _1_ grape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 Check 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as characteristic of an A) acid  or B)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1.  Sour ta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2.  Produces OH- in aqueous solution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3.  Chalky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4.  Is an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5.  Produces H+ in aqueous sol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as a characteristic of an A) acid  or B)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A_  1. Sour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B_  2. Produces OH- in aqueous solution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B_  3. Chalky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 B  4. Is an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A_  5. Produces H+ in aqueous sol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chlo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t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P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ospho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3COOH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et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BAA6-2D4C-4471-BC14-DCCD2DED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37C-65AC-4A0B-985D-933B7A45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5F96-78A7-43A2-A4D4-5D886FD9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B888-88BB-4CF2-A977-444A1465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15D-D291-4E05-84BC-BEAEA732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F22-4AA9-44B4-91D0-CBEF5D91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97AB-DE65-430C-BE53-A11913ED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A54E-A727-4DCA-A9F1-C3CDCA78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750-B41A-4395-8153-35D89DF2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8E68-73DF-43A4-825D-3ABBE185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CAD4-EED1-4A89-9D63-CE15FDDF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6CFC-617B-4B61-A907-141C0D17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AE37-5235-437B-A5F1-81CA2837381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Give the names of the following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HBr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 bromic acid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.  bromous acid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 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 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.  hydro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 carbon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name of a nonoxy acid begins with the prefix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hydro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ends with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-ic acid.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 a nonoxy acid, the negative anion end in -</a:t>
            </a:r>
            <a:r>
              <a:rPr b="1" i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ide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.</a:t>
            </a:r>
            <a:r>
              <a:rPr b="1" i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name of an oxyacid is named with the stem of the anion (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carbonate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hanged to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c acid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Common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tass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Al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umin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atch the formulas with the name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___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ydrochlo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) nitr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5) calc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atch the formulas with the name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4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ydrochlo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5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) nitr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3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5) calc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5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cid, Base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m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r Sal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____________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80880" y="1905120"/>
            <a:ext cx="8382240" cy="53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cid, Base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m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r Sal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lcium chlor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tassiui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r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Oval 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Oval 3"/>
          <p:cNvSpPr/>
          <p:nvPr/>
        </p:nvSpPr>
        <p:spPr>
          <a:xfrm>
            <a:off x="6248520" y="51055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2743200" y="4952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3429000" y="50292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onsted-Lowry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s are hydrogen ion (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ono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s are hydrogen ion (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accepto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          +   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+       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donor         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acceptor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      +                   -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962520" y="3733920"/>
            <a:ext cx="106668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533520" y="4724280"/>
            <a:ext cx="76176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2971800" y="4419720"/>
            <a:ext cx="762120" cy="7617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4343400" y="4876920"/>
            <a:ext cx="6094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5715000" y="4495680"/>
            <a:ext cx="76212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5715000" y="43434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7772400" y="4419720"/>
            <a:ext cx="762120" cy="8380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rrhenius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s produc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wa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Cl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  +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ff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s produce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water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Na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  +  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438280" y="312408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2514600" y="5791320"/>
            <a:ext cx="16765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s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ions in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a negative ion (-) to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aste sour  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rrode metal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act with bases to form salts and wa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Object 4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ons in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aste bitter, chalk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re electrolyt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eel soapy, slipper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act with acids to form salts and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Object 6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scribe the solution in each of the following as: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cid   2) base  or 3)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___sod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___soap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 ___coffe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 ___ w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 ___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.   ___ grapefrui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scribe each solution as: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cid   2) base  or 3) 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sod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2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soap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coffe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w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3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.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grapefrui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2193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 Check AB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as characteristic of an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) acid  or B)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1.  Sour tast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2.  Produces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3.  Chalky tas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4.  Is an electroly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5.  Produces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2193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2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as a characteristic of an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A) acid  or B) ba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1. Sour tas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2. Produces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aqueous solutions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3. Chalky tas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, 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Is an electroly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5. Produces 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aqueous solution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Common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hydr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hlor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984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itr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osphor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ulfur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OH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et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21:59:49Z</dcterms:created>
  <dc:creator>Karen Timberlake</dc:creator>
  <dc:description/>
  <dc:language>en-US</dc:language>
  <cp:lastModifiedBy>LEGION</cp:lastModifiedBy>
  <dcterms:modified xsi:type="dcterms:W3CDTF">2017-01-26T09:09:07Z</dcterms:modified>
  <cp:revision>12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